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77ED3-922D-40AB-A89A-2E2745E67C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6DC7E-C229-4A24-9ED9-7ECD2FBE65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5B2C-7BFB-4598-A59B-42901CE8D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D5C0-401B-4527-AD90-B64D97E17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3E02-7BDA-4CCC-BFC8-D54318EEE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D2B1-F9EC-4BA1-9D79-080DA54D5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59CA-DB27-44A2-96EA-80C0DD49E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FF0D-FC4B-4A7D-A589-169588EC4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11B5-4FD4-44CF-B2F7-6A7F447CE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204F-68AC-4161-9BC2-DD4C4F67C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BA49-CE01-4D09-83EB-D2587B695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0EE8-5D6F-49B3-BC52-F84A8540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2C8B-5171-4871-9343-FF1D3132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1A12-77D7-4177-8EE0-241B36203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28834-EB55-4688-8641-C9247CFBFA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03280" y="1628640"/>
            <a:ext cx="6261120" cy="110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ood Practic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nvfflogoamended"/>
          <p:cNvPicPr/>
          <p:nvPr/>
        </p:nvPicPr>
        <p:blipFill>
          <a:blip r:embed="rId1"/>
          <a:stretch/>
        </p:blipFill>
        <p:spPr>
          <a:xfrm>
            <a:off x="6227640" y="549360"/>
            <a:ext cx="2159280" cy="996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National Forum logo - learning disabilities (2).jpg"/>
          <p:cNvPicPr/>
          <p:nvPr/>
        </p:nvPicPr>
        <p:blipFill>
          <a:blip r:embed="rId2"/>
          <a:stretch/>
        </p:blipFill>
        <p:spPr>
          <a:xfrm>
            <a:off x="611280" y="476280"/>
            <a:ext cx="2835360" cy="1160280"/>
          </a:xfrm>
          <a:prstGeom prst="rect">
            <a:avLst/>
          </a:prstGeom>
          <a:ln w="0">
            <a:noFill/>
          </a:ln>
        </p:spPr>
      </p:pic>
      <p:sp>
        <p:nvSpPr>
          <p:cNvPr id="51" name="TextBox 6"/>
          <p:cNvSpPr/>
          <p:nvPr/>
        </p:nvSpPr>
        <p:spPr>
          <a:xfrm>
            <a:off x="539640" y="2637000"/>
            <a:ext cx="7848720" cy="35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set up a small Working Group: Kerry, Jo, Pam and Anit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held 3 meetings to choose the best ones from the 87 examples that were sent i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hose the 6 that we thought were the b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 has just arranged dates for the 6 Checkers’ vis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32720" y="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DPB (13) 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edb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heckers will be meeting the Minister, Norman Lamb to tell him about the vis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project will be part of a wider good practice event, run by the Joint Improvement Team, in the autum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087560" y="1773360"/>
            <a:ext cx="1962000" cy="2016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116000" y="4365720"/>
            <a:ext cx="15620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 Apr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732720" y="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DPB (13) 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o are the Check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7151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oru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ry Martin, Dawn Johnson, Alison Owen, Jo Hough, Marcella Cooper and Shirley Corbe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Steering Grou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ll Mumford, Vicki Raphael, Rachel Holynska, Steven Taylor, Andrea Pope-Smith and Tim H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200px-Check_mark"/>
          <p:cNvPicPr/>
          <p:nvPr/>
        </p:nvPicPr>
        <p:blipFill>
          <a:blip r:embed="rId1"/>
          <a:stretch/>
        </p:blipFill>
        <p:spPr>
          <a:xfrm>
            <a:off x="468360" y="0"/>
            <a:ext cx="1905120" cy="1773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732720" y="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DPB (13) 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35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s to be Check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99128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pen University – Recording and Sharing People’s Life Histo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folk Coalition of Disabled People – Better Access to Public Health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ucester NHS &amp; Gloucestershire Voices – 360-degree (All Round) Quality Check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C:\Documents and Settings\Joanne Hough\Local Settings\Temporary Internet Files\Content.IE5\OPD35FRJ\MC900431585[1].png"/>
          <p:cNvPicPr/>
          <p:nvPr/>
        </p:nvPicPr>
        <p:blipFill>
          <a:blip r:embed="rId1"/>
          <a:stretch/>
        </p:blipFill>
        <p:spPr>
          <a:xfrm>
            <a:off x="611280" y="333360"/>
            <a:ext cx="1296720" cy="1295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732720" y="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DPB (13) 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7280" y="4759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s to be Check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912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ckney and Advance – Supported living and home ownership for people with very high support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cintyre No Limits Oxfordshire – Young people with complex needs moving into supported l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rseyCare NHS Liverpool – Keeping people with complex health needs (such as Downs Syndrome and dementia) safe and well in their local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0" descr="C:\Documents and Settings\Joanne Hough\Local Settings\Temporary Internet Files\Content.IE5\OPD35FRJ\MC900431585[1].png"/>
          <p:cNvPicPr/>
          <p:nvPr/>
        </p:nvPicPr>
        <p:blipFill>
          <a:blip r:embed="rId1"/>
          <a:stretch/>
        </p:blipFill>
        <p:spPr>
          <a:xfrm>
            <a:off x="611280" y="333360"/>
            <a:ext cx="1325520" cy="13240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732720" y="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DPB (13) 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4T15:16:38Z</dcterms:created>
  <dc:creator>Test</dc:creator>
  <dc:description/>
  <dc:language>en-US</dc:language>
  <cp:lastModifiedBy>DH User</cp:lastModifiedBy>
  <dcterms:modified xsi:type="dcterms:W3CDTF">2013-02-28T21:27:39Z</dcterms:modified>
  <cp:revision>43</cp:revision>
  <dc:subject/>
  <dc:title>Good Practice Project</dc:title>
</cp:coreProperties>
</file>